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olog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 vs.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 mid-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w Out of Social Uphe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hinking of Socia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ccess of 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Scientific Method to So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the Term “Sociolog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chair Philosop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e Comte and Positiv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Founder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and Higher Forms of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Phrase “Survival of the Fitte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ert Spencer - Social Darw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f Human History is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urgeoisie vs. The Prol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m Not the Same as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Sociology Recognized as Separate 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ied How Social Forces Affec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“Social Integration” - Degree to Which People are Tied to Soci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e Durkheim and Soci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and the Origin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is Central Force in Soci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stant Ethic and Spirit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and the Protestant E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Value-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Should Involve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 and Use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- “To Grasp by Ins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Subjective Mea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k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e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ocial Facts with Other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cial Facts and Verstehen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an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Groups Influenc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are Influenced by Their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Broader Soci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s of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Sex Roles Rigid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Educated Beyond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Marti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Society in America Before Durkheim and Weber Were 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Work was Ign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ism in Early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istory: Tension Between Social Reform and Sociolog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 Addams and Social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E. B. Du Bois and Race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ott Parsons and C. Wright Mills: Theory vs.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ension and Rise of Applied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in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m - How People Use Symbols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Meaning of Symbols Affects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tional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v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Parent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th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a Whole Unit Made Up of Interrelated Parts that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m, Structural Func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Merton - Functions and Dys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 of the Sick and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Location - Corners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inists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 and Conflict Theorists -  Ma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ts - Mi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Full Circle: Reform vs.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ity of Ori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ap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—Location in Broad Stream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—Individual’s  Specific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right Mil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and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tudies both the Global Network and Our Unique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ciences—Explain and Predict Events in Natur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Sciences—Examine Hum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logy - Studie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 - Studies the Production and Distribution of Good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l Science - Studies How People Govern Themsel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logy - The Study of Processes Within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- Similarities to Other 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Something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Genera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4B64-A705-477C-BFAC-616E83519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E7F1-9425-4EA5-87A2-5211AC480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7D70-C571-4EE6-AF49-36DA99EF7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46E0-700E-4771-83AE-A5E7ABC7A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65F97-A801-4D18-9D41-2164B1B6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EA82C-732F-4ED7-B134-094431A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B34E1-0D26-4241-BD0D-3380E64B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DD9C4-78AA-4779-BEFA-129DF971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BC11C-7C7E-43BA-AC9F-A0E2663A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CE5D1-1D9D-4D7F-ABA9-DD16F284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65493-2588-417B-AFCC-872D9FE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9D50-61E3-47D7-8E22-ACE867566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9B185-2417-4010-AC7E-739E8DA5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5730F-14F1-4819-90B0-4EA16ADB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849CB-6C93-43BB-9498-5F6AE96A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766DA-705F-4C3A-99AB-6A01A96E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2EB5E-CB5C-4436-9C86-E732764F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4510-F455-44DA-A6E1-35CB00BD7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0AB5-E89E-496A-A67D-E35AB96B3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3C1B-240C-48D8-95A4-3F4A8113E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27B5-3295-4940-900B-04E1E2562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2C44-B30E-4C0E-A107-0A0789108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B3E7-7AD0-4051-ABCE-E1045B159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2339F-7E6E-440E-ACCC-F1888825C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C896-210A-4428-9077-49ABF75F802A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: The Sociological Perspectiv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7DCB-2F32-40B7-ACC4-F27410498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8862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pter One: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Sociologic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dition vs.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erged mid-18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ew Out of Social Upheav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hinking of Social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uccess of Natural Sc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66680" y="609480"/>
            <a:ext cx="70106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rigins of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the Scientific Method to Social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the Term “Sociolog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mchair Philosoph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uguste Comte and Positiv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Founder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wer and Higher Form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Phrase “Survival of the Fittest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457200"/>
            <a:ext cx="70106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erbert Spencer - Social Darwin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ngine of Human History is Class 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ourgeoisie vs. The Proletari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ism Not the Same as Commu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66680" y="380880"/>
            <a:ext cx="5943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arl Marx and Class Conflic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t Sociology Recognized as Separate Discip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udied How Social Forces Affect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ntified “Social Integration” - Degree to Which People are Tied to Social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6680" y="457200"/>
            <a:ext cx="7315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ile Durkheim and Social Integr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8" name="Picture 5" descr="C:\PowerPoint Work\Allyn &amp; Bacon\2005 Work\Henslin 8ed\Artwork\01-01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24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and the Origin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is Central Force in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testant Ethic and Spirit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457200"/>
            <a:ext cx="7620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x Weber and the Protestant Ethic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Value-F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Obj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Should Involve Repl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als and Uses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457200"/>
            <a:ext cx="6934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alues in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Research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3" descr="01-02"/>
          <p:cNvPicPr/>
          <p:nvPr/>
        </p:nvPicPr>
        <p:blipFill>
          <a:blip r:embed="rId1"/>
          <a:stretch/>
        </p:blipFill>
        <p:spPr>
          <a:xfrm>
            <a:off x="1228680" y="457200"/>
            <a:ext cx="59706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erstehen - “To Grasp by Insight”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mportance of Subjective Mean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urkhe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ressed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lain Social Facts with Other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Social Facts and Verstehen Fit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380880"/>
            <a:ext cx="60962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Verstehen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and Social Fact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3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Groups Influence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People are Influenced by Their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Cul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Territ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eing the Broader Soci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itudes of the T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1800s Sex Roles Rigidly Defin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ew People Educated Beyond Basic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riet Martineau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shed Society in America Before Durkheim and Weber Were Bor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er Work was Ignor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380880"/>
            <a:ext cx="7543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xism in Early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History: Tension Between Social Reform and Sociological Analy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ane Addams and Social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. E. B. Du Bois and Race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cott Parsons and C. Wright Mills: Theory vs.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ing Tension and Rise of Applied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6680" y="380880"/>
            <a:ext cx="5486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in North America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4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01-03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 - How People Use Symbols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Symbolic Interactionism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ing the Meaning of Symbols Affects Expec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654120"/>
            <a:ext cx="655344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oretical Perspectiv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otion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ve Symb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Parent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8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8" name="Picture 3" descr="C:\PowerPoint Work\Allyn &amp; Bacon\2005 Work\Henslin 8ed\Artwork\01-04.jpg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31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es in the La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is a Whole Unit Made Up of Interrelated Parts that Work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, Structural 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bert Merton - Functions and Dysfu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533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the Sick and Elder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533520"/>
            <a:ext cx="7925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ob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Location - Corners in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49200"/>
            <a:ext cx="73152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6" dur="1" fill="hold"/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ts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106668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flict Theor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s and Conflict Theorists -  Ma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ts - Mi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vels of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Full Circle: Reform vs. Resear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ublic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Orien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577800"/>
            <a:ext cx="5486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Shaping the Futur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1" name="Picture 3" descr="C:\PowerPoint Work\Allyn &amp; Bacon\2005 Work\Henslin 8ed\Artwork\01-05.jpg"/>
          <p:cNvPicPr/>
          <p:nvPr/>
        </p:nvPicPr>
        <p:blipFill>
          <a:blip r:embed="rId1"/>
          <a:stretch/>
        </p:blipFill>
        <p:spPr>
          <a:xfrm>
            <a:off x="2057400" y="457200"/>
            <a:ext cx="41623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228600"/>
            <a:ext cx="47037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istory—Location in Broad Stream of Ev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graphy—Individual’s  Specific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. Wright Mills: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nection Between 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istory and Biography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obal Vill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ant Commun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tudies both the Global Network and Our Unique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3808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rowing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ob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atural Sciences—Explain and Predict Events in Natural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ocial Sciences—Examine Human Relationshi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38088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hropology - Studies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s - Studies the Production and Distribution of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al Science - Studies How People Govern Themselve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66680" y="380880"/>
            <a:ext cx="6629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 - The Study of Process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- Similarities to Other Disciplin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380880"/>
            <a:ext cx="64771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lain Why Something Happ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ke Generaliz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dict What will Happ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577800"/>
            <a:ext cx="73915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oal of Sci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05:01Z</dcterms:modified>
  <cp:revision>174</cp:revision>
  <dc:subject>Chapter One: The Sociological Perspective</dc:subject>
  <dc:title>Sociology: A Down-to-Earth Approach, 8/e</dc:title>
</cp:coreProperties>
</file>